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9167-9EAE-4B95-9920-79356B8F6D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531612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90FA-E24A-45C0-BE2B-E51F99E7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9316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F6C5-443B-4796-A548-C4663DF5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23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04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623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04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06BC-FEDA-4DE8-ADBF-D469CA76D8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19E7-E0D9-40FD-B33A-F8AC7C9E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0D446-DED1-422B-ADE8-04762132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00DA-7F86-445F-A541-BEA85F2D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6A99-4BC0-4480-8F82-A68D5AC6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6560" y="290520"/>
            <a:ext cx="558792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33F2-7DAF-464D-B36B-DD9D1C93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0780-241C-41E9-B4C7-B2E290EB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9316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9E39-C683-424F-8796-859FB47D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B5A4-B033-4111-9B75-6D3F9A9F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7920">
              <a:spcBef>
                <a:spcPts val="2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895320" indent="19080"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592280" indent="-227160">
              <a:spcBef>
                <a:spcPts val="2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9700920"/>
            <a:ext cx="1581120" cy="20484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5428800" y="9672120"/>
            <a:ext cx="1428840" cy="23364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1A86A983-19D1-46B6-93FA-00C4FA2B221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9691560"/>
            <a:ext cx="3149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Verdana"/>
              </a:rPr>
              <a:t>© BEYOND BUSINESS - CV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691560"/>
            <a:ext cx="6858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Verdana"/>
              </a:rPr>
              <a:t>www.BEYONDBUSINESS.info / www.CVOP.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232240" y="9691560"/>
            <a:ext cx="16257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A0F7D60A-2261-4F4F-82DE-2F1F18CC55A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Mini-BCscan” zelfreflec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n deze zelfreflectie-scan word je gevraagd 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wat je voorkeurstijl is om met problemen om te gaan. 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Hieronder staan acht manieren om met problemen om te gaan. Gebruik de volgende schaal om aan te geven hoe vaak je die toepas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1  Zeld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  So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3  Regelmati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4  Heel vaa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5  Bijna altij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luister goed naar anderen en heb begrip voor veel verschillende standpunt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zet duidelijke (werk)regels, richtlijnen en doelstellingen ne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gebruik bekende methoden om informatie en feiten te analyser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zie nieuwe trends, kansen en mogelijkhed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onderhandel met en beïnvloed belangrijke mens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bedenk oplossingen voor praktische problem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toon een grote mate van tolerantie om goed samen te kunnen werk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kan mij goed richten en focussen op wat ik aan het doen ben en ik ben niet af te brengen van mijn doel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9800" y="3378240"/>
            <a:ext cx="274680" cy="426960"/>
            <a:chOff x="469800" y="3378240"/>
            <a:chExt cx="274680" cy="426960"/>
          </a:xfrm>
        </p:grpSpPr>
        <p:sp>
          <p:nvSpPr>
            <p:cNvPr id="46" name=""/>
            <p:cNvSpPr/>
            <p:nvPr/>
          </p:nvSpPr>
          <p:spPr>
            <a:xfrm>
              <a:off x="469800" y="33782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9800" y="380520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69800" y="5549760"/>
            <a:ext cx="274680" cy="426960"/>
            <a:chOff x="469800" y="5549760"/>
            <a:chExt cx="274680" cy="426960"/>
          </a:xfrm>
        </p:grpSpPr>
        <p:sp>
          <p:nvSpPr>
            <p:cNvPr id="49" name=""/>
            <p:cNvSpPr/>
            <p:nvPr/>
          </p:nvSpPr>
          <p:spPr>
            <a:xfrm>
              <a:off x="469800" y="554976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9800" y="597672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69800" y="6647040"/>
            <a:ext cx="274680" cy="426960"/>
            <a:chOff x="469800" y="6647040"/>
            <a:chExt cx="274680" cy="426960"/>
          </a:xfrm>
        </p:grpSpPr>
        <p:sp>
          <p:nvSpPr>
            <p:cNvPr id="52" name=""/>
            <p:cNvSpPr/>
            <p:nvPr/>
          </p:nvSpPr>
          <p:spPr>
            <a:xfrm>
              <a:off x="469800" y="66470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9800" y="707400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9104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66084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6944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282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737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501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77836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86268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92120" y="4468680"/>
            <a:ext cx="274680" cy="426960"/>
            <a:chOff x="492120" y="4468680"/>
            <a:chExt cx="274680" cy="426960"/>
          </a:xfrm>
        </p:grpSpPr>
        <p:sp>
          <p:nvSpPr>
            <p:cNvPr id="63" name=""/>
            <p:cNvSpPr/>
            <p:nvPr/>
          </p:nvSpPr>
          <p:spPr>
            <a:xfrm>
              <a:off x="492120" y="446868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120" y="48956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eken je eigen profi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Mini-BCscan” zelfreflectie-scan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Je eigen profiel tekenen gaat als volgt: Neem je scores van de vragen over door op de kruising van de vraaglijnen (A, B, ..) en de ringen=scores (1,2, ..) een rondje te zetten. Verbind daarna in rechte lijnen de rondjes met elkaar zodat een webprofiel ontstaa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68360"/>
            <a:ext cx="6858000" cy="49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98680" y="4537080"/>
            <a:ext cx="3914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56000" y="2579760"/>
            <a:ext cx="0" cy="3914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58880" y="3762000"/>
            <a:ext cx="3594240" cy="155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680920" y="2739960"/>
            <a:ext cx="1550160" cy="35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27720" y="2720160"/>
            <a:ext cx="1456560" cy="363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639080" y="3808800"/>
            <a:ext cx="3633840" cy="145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4240" y="4143240"/>
            <a:ext cx="793800" cy="787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0760" y="3749760"/>
            <a:ext cx="1581120" cy="1574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66920" y="3355920"/>
            <a:ext cx="2362320" cy="23558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86040" y="2975040"/>
            <a:ext cx="3136680" cy="3136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92200" y="2562120"/>
            <a:ext cx="3930840" cy="393696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715920" y="4413240"/>
            <a:ext cx="1858320" cy="276480"/>
            <a:chOff x="3715920" y="4413240"/>
            <a:chExt cx="1858320" cy="276480"/>
          </a:xfrm>
        </p:grpSpPr>
        <p:sp>
          <p:nvSpPr>
            <p:cNvPr id="80" name=""/>
            <p:cNvSpPr/>
            <p:nvPr/>
          </p:nvSpPr>
          <p:spPr>
            <a:xfrm>
              <a:off x="371592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0040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8272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980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9236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420880" y="526104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RODU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3360" y="6394320"/>
            <a:ext cx="131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STUU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8640" y="6388200"/>
            <a:ext cx="153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ORD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80" y="5191200"/>
            <a:ext cx="178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NTROL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8520" y="3573360"/>
            <a:ext cx="173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T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37280" y="2465280"/>
            <a:ext cx="88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EN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9880" y="250812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NOV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4440" y="3570120"/>
            <a:ext cx="200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MIDDEL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0960" y="2266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05480" y="6200640"/>
            <a:ext cx="4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4200" y="23130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62040" y="61866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61000" y="338148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2360" y="334656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8360" y="4957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05360" y="505944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1:02:37Z</dcterms:created>
  <dc:creator>Frans de Vlieger</dc:creator>
  <dc:description/>
  <dc:language>en-US</dc:language>
  <cp:lastModifiedBy>AAk</cp:lastModifiedBy>
  <cp:lastPrinted>2007-03-25T19:59:23Z</cp:lastPrinted>
  <dcterms:modified xsi:type="dcterms:W3CDTF">2011-03-30T07:51:19Z</dcterms:modified>
  <cp:revision>546</cp:revision>
  <dc:subject>Centrum voor Onoplosbare Problemen</dc:subject>
  <dc:title>module</dc:title>
</cp:coreProperties>
</file>